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10058400" cy="77724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263240" y="692280"/>
            <a:ext cx="4483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3E79ED-ADF1-48C0-916C-6A8D13E9F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B398C9-9ED6-48B3-9706-CEBC2BFC8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6812B9-4C05-4457-9D03-43982999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310B18-7E45-436D-B960-02E213417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3D7739-1B7E-4767-92F7-9B1A5E430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ECDDE9-8057-478D-91ED-89257CE05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CBBE7A-025F-4A25-B12E-D114D62BD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B8E724-BAD0-4E99-A952-B1B37C2BB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63600" y="692280"/>
            <a:ext cx="448308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663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6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32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284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32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284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9052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76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2663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76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4932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12840" y="15987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4932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12840" y="4266360"/>
            <a:ext cx="282204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9052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6800" y="42663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6800" y="1598760"/>
            <a:ext cx="427680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66360"/>
            <a:ext cx="8764560" cy="24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Gill Sans M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27332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782720" indent="-253800">
              <a:spcBef>
                <a:spcPts val="700"/>
              </a:spcBef>
              <a:buClr>
                <a:srgbClr val="000000"/>
              </a:buClr>
              <a:buFont typeface="Gill Sans M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380880" y="6999120"/>
            <a:ext cx="533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BBB0E9-565D-4E2C-B631-0C6F203D3979}" type="slidenum">
              <a:rPr b="1" lang="en-US" sz="1800" spc="-1" strike="noStrike">
                <a:solidFill>
                  <a:srgbClr val="052c97"/>
                </a:solidFill>
                <a:latin typeface="Gill Sans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Gill Sans M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27332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782720" indent="-253800">
              <a:spcBef>
                <a:spcPts val="700"/>
              </a:spcBef>
              <a:buClr>
                <a:srgbClr val="000000"/>
              </a:buClr>
              <a:buFont typeface="Gill Sans M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292480" indent="-254160">
              <a:spcBef>
                <a:spcPts val="700"/>
              </a:spcBef>
              <a:buClr>
                <a:srgbClr val="000000"/>
              </a:buClr>
              <a:buFont typeface="Gill Sans M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4229280"/>
            <a:ext cx="845820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dfb304"/>
                </a:solidFill>
                <a:latin typeface="Gill Sans MT"/>
              </a:rPr>
              <a:t>The Art of the Ask: A Recipe for Succes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429000" y="51055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52c97"/>
                </a:solidFill>
                <a:latin typeface="Gill Sans MT"/>
              </a:rPr>
              <a:t>Michael Eatoug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52c97"/>
                </a:solidFill>
                <a:latin typeface="Gill Sans MT"/>
              </a:rPr>
              <a:t>Executive Director of Major Gif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52c97"/>
                </a:solidFill>
                <a:latin typeface="Gill Sans MT"/>
              </a:rPr>
              <a:t>Louise Ols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52c97"/>
                </a:solidFill>
                <a:latin typeface="Gill Sans MT"/>
              </a:rPr>
              <a:t>Senior Major Gifts Offic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  <a:ea typeface="Aparajita"/>
              </a:rPr>
              <a:t>Goals to accomplish for each meeting?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44792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eting – Information gathering, annual fund ask, ven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eting – Campus invitations, gauging campaign interest, other charitable interests, potential areas of interest…and if meeting is going well, ask permission to come back and talk about the comprehensive campaig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eting – Talk about campaign in greater detail, discuss involvement of JWU community, and ascertain interest in supporting JWU through a major gift (this may take 3 or more contacts)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VEAT – Watch for the window of opportunity.  Some individuals may not need as much cultivation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9128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First Meeting – Channel your Inner Journalis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5334120" cy="3000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5330880" y="34574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rbara Wa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716040" y="4135320"/>
            <a:ext cx="8199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 about your Prospective Do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originally from this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did you choose to attend Johnson and Wales Univers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you been back to campus recently/attended ev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as your experience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id you do after gradua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id you get to your current ro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s prompted you to donate to JW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The First Meeting – Prep Work for Succes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29528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natural curiosity – The first 20-30 minutes should be spent learning about donor (what are wealth/affinity indicator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 the university’s Strategic Plan and aspir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on students and be straightforw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ways ask for a Leadership Annual Fund Gift on first visit (and bring an envelop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rve Body Langu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wouldn’t be doing my job if I didn’t ask you for your support.”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donor struggles to respond to leadership ask – “If not now, perhaps we can look at it as a future goal.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e call report and follow up with hand written no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spouse be involved in discussion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Cultivation – Moving closer to a gif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447560"/>
            <a:ext cx="87645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qualified, what are your next step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ite for a campus visi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eting with Dean or Presid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hat tour of new co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-31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umni Ev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lish a visit pattern (e.g. - Visit NJ in Jan, May, and Oct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right ask and the best projec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an ideal strategic plan with timeli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d updates, instill investment, status of pro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olve trustees if possible (Trustee traveling in area?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lunteers (classmate/faculty/natural partner) who  can help move them alo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  <a:ea typeface="Aparajita"/>
              </a:rPr>
              <a:t>Individual strategies for meeting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066680"/>
            <a:ext cx="87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 Checklist - The Cheat She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 3 major goals for the meeting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o you need to accomplish to prepare for the next meeting? (e.g. – Ask permission to discuss campaig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o you need to learn about their capacity, inclination or philanthropic interests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o they need to know about JWU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efinable next steps will you propose (e.g. – campus visits, event hosting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can you push the campaign discussion forward?   Volunteer assistance on next visi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58680" indent="-51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Making the Ask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219320"/>
            <a:ext cx="876456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your homework, but be prepared for Plan 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e the Case for Sup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0440" indent="-488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act on university, students, community, profession, et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0440" indent="-488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stment in university will increase the value of a graduate’s degre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0440" indent="-488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y it Forward – Did they receive scholarship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0440" indent="-48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Your Rhetor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52c97"/>
                </a:solidFill>
                <a:latin typeface="Gill Sans MT"/>
              </a:rPr>
              <a:t>Developing Rhetoric: Your Bull Durham Moments</a:t>
            </a:r>
            <a:endParaRPr b="0" lang="en-US" sz="32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2120" y="4800240"/>
            <a:ext cx="86882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got to play it one day at a tim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’m just happy to be here.  Hope I can help the ball club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just want to give it my best shot and the good Lord willing, things will work ou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2438280" y="993600"/>
            <a:ext cx="4691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Fundraiser’s Rhetoric (personal approach)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295280"/>
            <a:ext cx="87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know the value of receiving a scholarship and want to make sure that others have the same opportunity as m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n Ivy League school, your gift is a drop in the bucket.  At JWU, it has a far more significant impac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(School of Choice), we have been doing this longer and better than any other universit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gift will transform the lives of students in perpetuit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can’t change the lives of every student at JWU, but one gift at a time, I can transform the lives of individual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 job is to remove financial barriers for students; provide the university with the best possible resources; and ensure that no student ever leaves JWU for financial reas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052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52c97"/>
                </a:solidFill>
                <a:latin typeface="Gill Sans MT"/>
                <a:ea typeface="Aparajita"/>
              </a:rPr>
              <a:t>Legacy &amp; Mission Fundraising:</a:t>
            </a:r>
            <a:br>
              <a:rPr sz="3200"/>
            </a:br>
            <a:r>
              <a:rPr b="0" lang="en-US" sz="3200" spc="-1" strike="noStrike">
                <a:solidFill>
                  <a:srgbClr val="052c97"/>
                </a:solidFill>
                <a:latin typeface="Gill Sans MT"/>
                <a:ea typeface="Aparajita"/>
              </a:rPr>
              <a:t>Rhetoric for Leadership/Major Gifts</a:t>
            </a:r>
            <a:endParaRPr b="0" lang="en-US" sz="32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How will individuals want to be remembered?  (teaching philanthrop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Investing in Mission – ideas, issues, alignment (donor or indust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If it is a transformative gift, how will it transform JWU and its students? Intersection with University Strategic Pl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Discussion should focus on results/impact (less on need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What are expectations of donor and university?  What type of involvement is desired?  Immediacy of impact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What questions should fundraisers anticipate from donors?  Financial stability?  Leadership of JWU?  Strategic Vision?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parajita"/>
              </a:rPr>
              <a:t>These people are smart, worked hard, and invested their money wisely.  They expect the same from JWU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1160" indent="-3711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296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Strategic Plan –Is your university/message special?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pic>
        <p:nvPicPr>
          <p:cNvPr id="126" name="Content Placeholder 5" descr=""/>
          <p:cNvPicPr/>
          <p:nvPr/>
        </p:nvPicPr>
        <p:blipFill>
          <a:blip r:embed="rId1"/>
          <a:srcRect l="-2345" t="14518" r="6187" b="20546"/>
          <a:stretch/>
        </p:blipFill>
        <p:spPr>
          <a:xfrm>
            <a:off x="6172200" y="1287360"/>
            <a:ext cx="3152880" cy="1596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3886200" y="1287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3"/>
          <a:srcRect l="7227" t="10069" r="18059" b="9565"/>
          <a:stretch/>
        </p:blipFill>
        <p:spPr>
          <a:xfrm>
            <a:off x="3747960" y="3722760"/>
            <a:ext cx="2363760" cy="190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4"/>
          <a:stretch/>
        </p:blipFill>
        <p:spPr>
          <a:xfrm>
            <a:off x="666720" y="3722760"/>
            <a:ext cx="2763720" cy="1735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5"/>
          <a:srcRect l="21806" t="5918" r="20446" b="0"/>
          <a:stretch/>
        </p:blipFill>
        <p:spPr>
          <a:xfrm>
            <a:off x="609480" y="1287360"/>
            <a:ext cx="2876760" cy="1782720"/>
          </a:xfrm>
          <a:prstGeom prst="rect">
            <a:avLst/>
          </a:prstGeom>
          <a:ln w="0">
            <a:noFill/>
          </a:ln>
        </p:spPr>
      </p:pic>
      <p:pic>
        <p:nvPicPr>
          <p:cNvPr id="131" name="Content Placeholder 2" descr=""/>
          <p:cNvPicPr/>
          <p:nvPr/>
        </p:nvPicPr>
        <p:blipFill>
          <a:blip r:embed="rId6"/>
          <a:stretch/>
        </p:blipFill>
        <p:spPr>
          <a:xfrm>
            <a:off x="6477120" y="3297240"/>
            <a:ext cx="28144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68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Presentation Objective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33520" y="1600200"/>
            <a:ext cx="89913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 the Basics (assuming 3-5 years experi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ll confidence in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sight and language for “Making the As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suggestions for gift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realities of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gift officers for unexpected conversation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Solicitation - The Big Momen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143000"/>
            <a:ext cx="87645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have a rating – Use It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ey is relative – Your $100 is someone else’s $100,000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 specific – “Mr. Smith, we’d like you to consider a gift of $250,000 (payable over a period of up to five years) to endow a scholarship that will support the students in the College of Hospitality.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be quiet (Drink some water or tea) – Don’t qualify the ask and don’t interrup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4760" indent="-374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Potential Solicitation Dialogue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066680"/>
            <a:ext cx="87645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67200" indent="-36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you send me something in the mail? – YES! Repeat the request - “So, I’ll be sending a proposal requesting $250,000 in support of scholarships in the College of Hospitality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7200" indent="-36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f you believe that the gift will be paid over a period of up to five years, be sure to say so in your reques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7200" indent="-36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nsure donor? – Reflect his/her experience in the ask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7200" indent="-36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at is your university’s investment policy? Is spending policy aggressive/conservative? How calculated (12 quarter rolling average?) - Have your statistics and a grap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7200" indent="-36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 discussing an endowment, “I can invest my money better than your university” (discuss term gifts and private foundation option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0680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Four questions for unwilling donor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120" y="129492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it the University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it the Project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it the Timing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 it the Amount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5675400" y="1144440"/>
            <a:ext cx="3200400" cy="735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5675400" y="36702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5675400" y="4952880"/>
            <a:ext cx="1706400" cy="10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"/>
          <p:cNvPicPr/>
          <p:nvPr/>
        </p:nvPicPr>
        <p:blipFill>
          <a:blip r:embed="rId4"/>
          <a:stretch/>
        </p:blipFill>
        <p:spPr>
          <a:xfrm>
            <a:off x="5675400" y="2227320"/>
            <a:ext cx="179208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052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They have a proposal – What next?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06668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ck up the phone, again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’m calling to follow-up on the proposal I sent in support of students at JWU to see if you have come to a decision.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there any questions I can answer that might encourage you to help our students?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re any additional information you need?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fer to re-visit them (and bring along the Dean, etc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cuss various payment options and the tax benefits of each – donation of stock, other appreciated assets, et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RA Rollover Act (age 70 ½) – On again, off aga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91281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No Major Gift interest – Try a Planned Gift!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21932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es the donor have an unused asset (property, stocks, etc.) that can be turned into a stream of income through an annuity or charitable remainder trus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donor warm to the university but may not feel comfortable making an outright gift? Capacit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 the donor considered adding JWU into their will or trust? - Join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14 Soci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don’t have to know everything about planned giving, but be sure to know that a planned giving option exists and who they can speak wit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  <a:ea typeface="Aparajita"/>
              </a:rPr>
              <a:t>Other consideration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44792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rger gifts usually require leadership involvement and/or volunte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n’t place undue pressure on volunteer (MGO’s are ultimately responsible for the ask).   Briefing &amp; meeting prior to visit.  Volunteer/Dean may be more relaxed if gift officer makes the as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ve a number of gift options in mi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talking about numbers, be very “matter-of-fact”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talking impact, focus on results and legac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8720" indent="-37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don’t forget to ask if donor would be willing to help you raise additional funds or make introduction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Final Thought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14300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 respectful of the donor at every tur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n’t accept a gift that will cost the university more than the value of the gift (at least without university consent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eat everyone the same – alumni circles can be very small…and people tal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king for money is not intuitive.  It is a learned trait that can only be developed and honed through experienc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 proud to be a fundraiser – You are helping peopl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en if someone doesn’t make a major gift, they may be able to help you in other way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3240" indent="-363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QUESTIONS?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1598760"/>
            <a:ext cx="87645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82680" y="4229280"/>
            <a:ext cx="723888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dfb304"/>
                </a:solidFill>
                <a:latin typeface="Gill Sans MT"/>
              </a:rPr>
              <a:t>Thank you!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657600" y="4648320"/>
            <a:ext cx="6400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Michael Eatoug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Executive Director of Major G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Michael.eatough@jw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Louise Ol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Senior Major Gifts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52c97"/>
                </a:solidFill>
                <a:latin typeface="Gill Sans MT"/>
              </a:rPr>
              <a:t>Louise.olson@jw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The Basics (Quick Overview)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37160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do we Star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begins with Moves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cove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ltiv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lici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wardshi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90522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52c97"/>
                </a:solidFill>
                <a:latin typeface="Gill Sans MT"/>
              </a:rPr>
              <a:t>Key Fact: 2013 US Giving by Donor Type</a:t>
            </a:r>
            <a:br>
              <a:rPr sz="3600"/>
            </a:br>
            <a:r>
              <a:rPr b="1" lang="en-US" sz="2400" spc="-1" strike="noStrike">
                <a:solidFill>
                  <a:srgbClr val="052c97"/>
                </a:solidFill>
                <a:latin typeface="Gill Sans MT"/>
              </a:rPr>
              <a:t>80% of all gifts are made by individuals</a:t>
            </a:r>
            <a:endParaRPr b="0" lang="en-US" sz="2400" spc="-1" strike="noStrike">
              <a:solidFill>
                <a:srgbClr val="052c97"/>
              </a:solidFill>
              <a:latin typeface="Gill Sans MT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876240" y="1625760"/>
            <a:ext cx="8305920" cy="4520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3439440" y="632448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urce: Giving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8088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52c97"/>
                </a:solidFill>
                <a:latin typeface="Gill Sans MT"/>
              </a:rPr>
              <a:t>Key Fact: JWU Domestic Alumni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219320" y="898560"/>
            <a:ext cx="748656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823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52c97"/>
                </a:solidFill>
                <a:latin typeface="Gill Sans MT"/>
              </a:rPr>
              <a:t>Key Facts:  JWU Alumni Base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than 100,000 alumni from 126 countr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5% of that base has graduated since 199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6% have graduated from the Providence camp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1% live in the Northe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32% from Busin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28% from Hospitality and Food Serv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27% from Culinary Ar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8% from Graduate scho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26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5% from Engineering &amp; Desig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905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Identification: Essential Prospects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37160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 Donors to the University (cumulative &amp; single gif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us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reened Prospects (wealth screening provider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umni by Title (CEO, Chair, President, Owner, etc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Frie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 Wealthiest People in Reg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 Corporate Entities/Fou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ituents from Affluent Commun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ecutive Year Donors – Planned Giving Prosp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als/Couples with No Children (Discretionary Incom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Discovery: Securing the Visit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598760"/>
            <a:ext cx="87645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ck up the phon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ve a map – know the location and travel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e it easy for the donor (Meet at their home or offic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llow-up with an e-mail (confirmation or reques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er the call report immediate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edule discovery visits in between meetings with identified prospects (the pipeline is critica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82680" indent="-382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52c97"/>
                </a:solidFill>
                <a:latin typeface="Gill Sans MT"/>
              </a:rPr>
              <a:t>The Cold Call – What to Say</a:t>
            </a:r>
            <a:endParaRPr b="0" lang="en-US" sz="3600" spc="-1" strike="noStrike">
              <a:solidFill>
                <a:srgbClr val="052c97"/>
              </a:solidFill>
              <a:latin typeface="Gill Sans MT"/>
            </a:endParaRPr>
          </a:p>
        </p:txBody>
      </p:sp>
      <p:pic>
        <p:nvPicPr>
          <p:cNvPr id="102" name="Content Placeholder 3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572000" cy="29494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380880" y="4114800"/>
            <a:ext cx="9448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yourself and that you work at (Johnson &amp; Wales Univer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: “As part of a university initiative we are trying to meet with as many successful alumni as possible and I was hoping to have the opportunity to meet with you for 30-45 minutes to learn about your (JWU) experiences and give you a quick update on some of our current effor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eaving message – “I’ll follow up with an e-mail and will call you back in a couple of days if I don’t hear from you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3:15:17Z</dcterms:created>
  <dc:creator>sborowy</dc:creator>
  <dc:description/>
  <dc:language>en-US</dc:language>
  <cp:lastModifiedBy>Kelly Faulkner</cp:lastModifiedBy>
  <cp:lastPrinted>2013-04-02T15:04:39Z</cp:lastPrinted>
  <dcterms:modified xsi:type="dcterms:W3CDTF">2017-02-09T02:17:13Z</dcterms:modified>
  <cp:revision>160</cp:revision>
  <dc:subject/>
  <dc:title>Slide 1</dc:title>
</cp:coreProperties>
</file>