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0058400" cy="77724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63240" y="692280"/>
            <a:ext cx="4483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89F6F8-17AD-4774-AA6A-890BCB31E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1A6DE-AE91-4906-AD93-FC676F9A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A4CC0-2C49-49D7-84C9-EB046D17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05ACE1-423F-4D06-A3C4-EC41A30F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2CB05C-828F-4048-A027-F9BF5E53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ECD986-F1A6-4FD9-A9C8-2E80E311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D35AC6-ABE5-42A6-B95D-E26AF965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07C8D9-9C6B-4B78-AB60-9BACB342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80880" y="699912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B12638-4D63-49F9-B9ED-B1C378951ADE}" type="slidenum">
              <a:rPr b="1" lang="en-US" sz="1800" spc="-1" strike="noStrike">
                <a:solidFill>
                  <a:srgbClr val="052c97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229280"/>
            <a:ext cx="84582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e Art of the Ask: A Recipe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29000" y="5105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Michael Eat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Louise Ol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Goals to accomplish for each meeting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Information gathering, annual fund ask, ven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Campus invitations, gauging campaign interest, other charitable interests, potential areas of interest…and if meeting is going well, ask permission to come back and talk about the comprehensive campaig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Talk about campaign in greater detail, discuss involvement of JWU community, and ascertain interest in supporting JWU through a major gift (this may take 3 or more contact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VEAT – Watch for the window of opportunity.  Some individuals may not need as much cultivatio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2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rst Meeting – Channel your Inner Journalis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33412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330880" y="3457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bara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16040" y="4135320"/>
            <a:ext cx="8199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about your Prospective Do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originally from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id you choose to attend Johnson and Wales Univers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you been back to campus recently/attended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your experience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do after gradu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 get to your current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prompted you to donate to JW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First Meeting – Prep Work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952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natural curiosity – The first 20-30 minutes should be spent learning about donor (what are wealth/affinity indicato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the university’s Strategic Plan and aspi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students and be straight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ask for a Leadership Annual Fund Gift on first visit (and bring an envelo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 Body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wouldn’t be doing my job if I didn’t ask you for your support.”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donor struggles to respond to leadership ask – “If not now, perhaps we can look at it as a future goal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call report and follow up with hand written no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spouse be involved in discuss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ultivation – Moving closer to a gif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560"/>
            <a:ext cx="8764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qualified, what are your next ste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ite for a campus visi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 with Dean or P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hat tour of new co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a visit pattern (e.g. - Visit NJ in Jan, May, and Oc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ight ask and the best projec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an ideal strategic plan with time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 updates, instill investment, status of pro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 trustees if possible (Trustee traveling in area?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nteers (classmate/faculty/natural partner) who  can help move them al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Individual strategies for meeting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0666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 Checklist - The Cheat Sh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3 major goals for the meetin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accomplish to prepare for the next meeting? (e.g. – Ask permission to discuss campaig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learn about their capacity, inclination or philanthropic interests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they need to know about JWU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efinable next steps will you propose (e.g. – campus visits, event hosting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you push the campaign discussion forward?   Volunteer assistance on next visi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58680" indent="-51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Making the Ask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19320"/>
            <a:ext cx="87645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your homework, but be prepared for Plan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Case for 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act on university, students, community, profession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ment in university will increase the value of a graduate’s deg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it Forward – Did they receive scholarship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Your Rhetor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</a:rPr>
              <a:t>Developing Rhetoric: Your Bull Durham Momen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4800240"/>
            <a:ext cx="8688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got to play it one day at a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just happy to be here.  Hope I can help the ball club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just want to give it my best shot and the good Lord willing, things will work ou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438280" y="993600"/>
            <a:ext cx="4691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undraiser’s Rhetoric (personal approach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52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know the value of receiving a scholarship and want to make sure that others have the same opportunity as 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 Ivy League school, your gift is a drop in the bucket.  At JWU, it has a far more significant impac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(School of Choice), we have been doing this longer and better than any other univers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gift will transform the lives of students in perpetu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can’t change the lives of every student at JWU, but one gift at a time, I can transform the lives of individual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job is to remove financial barriers for students; provide the university with the best possible resources; and ensure that no student ever leaves JWU for financial reas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Legacy &amp; Mission Fundraising:</a:t>
            </a:r>
            <a:br>
              <a:rPr sz="3200"/>
            </a:b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Rhetoric for Leadership/Major Gif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How will individuals want to be remembered?  (teaching philanthrop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nvesting in Mission – ideas, issues, alignment (donor or indu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f it is a transformative gift, how will it transform JWU and its students? Intersection with University Strategic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Discussion should focus on results/impact (less on need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are expectations of donor and university?  What type of involvement is desired?  Immediacy of impact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questions should fundraisers anticipate from donors?  Financial stability?  Leadership of JWU?  Strategic Vision?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These people are smart, worked hard, and invested their money wisely.  They expect the same from JWU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trategic Plan –Is your university/message special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26" name="Content Placeholder 5" descr=""/>
          <p:cNvPicPr/>
          <p:nvPr/>
        </p:nvPicPr>
        <p:blipFill>
          <a:blip r:embed="rId1"/>
          <a:srcRect l="-2345" t="14518" r="6187" b="20546"/>
          <a:stretch/>
        </p:blipFill>
        <p:spPr>
          <a:xfrm>
            <a:off x="6172200" y="1287360"/>
            <a:ext cx="315288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3886200" y="1287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rcRect l="7227" t="10069" r="18059" b="9565"/>
          <a:stretch/>
        </p:blipFill>
        <p:spPr>
          <a:xfrm>
            <a:off x="3747960" y="3722760"/>
            <a:ext cx="2363760" cy="190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4"/>
          <a:stretch/>
        </p:blipFill>
        <p:spPr>
          <a:xfrm>
            <a:off x="666720" y="3722760"/>
            <a:ext cx="2763720" cy="173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rcRect l="21806" t="5918" r="20446" b="0"/>
          <a:stretch/>
        </p:blipFill>
        <p:spPr>
          <a:xfrm>
            <a:off x="609480" y="1287360"/>
            <a:ext cx="287676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Content Placeholder 2" descr=""/>
          <p:cNvPicPr/>
          <p:nvPr/>
        </p:nvPicPr>
        <p:blipFill>
          <a:blip r:embed="rId6"/>
          <a:stretch/>
        </p:blipFill>
        <p:spPr>
          <a:xfrm>
            <a:off x="6477120" y="3297240"/>
            <a:ext cx="2814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6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resentation Objectiv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3520" y="1600200"/>
            <a:ext cx="8991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the Basics (assuming 3-5 years exper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ll confidence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sight and language for “Making the As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uggestions for gift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realities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gift officers for unexpected conversation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olicitation - The Big Momen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143000"/>
            <a:ext cx="8764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a rating – Use It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ey is relative – Your $100 is someone else’s $100,00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specific – “Mr. Smith, we’d like you to consider a gift of $250,000 (payable over a period of up to five years) to endow a scholarship that will support the students in the College of Hospitality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be quiet (Drink some water or tea) – Don’t qualify the ask and don’t interrup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otential Solicitation Dialogu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066680"/>
            <a:ext cx="87645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you send me something in the mail? – YES! Repeat the request - “So, I’ll be sending a proposal requesting $250,000 in support of scholarships in the College of Hospitality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f you believe that the gift will be paid over a period of up to five years, be sure to say so in your requ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ure donor? – Reflect his/her experience in the as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university’s investment policy? Is spending policy aggressive/conservative? How calculated (12 quarter rolling average?) - Have your statistics and a grap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discussing an endowment, “I can invest my money better than your university” (discuss term gifts and private foundation optio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our questions for unwilling donor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29492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Universit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Projec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Timing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Amoun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675400" y="1144440"/>
            <a:ext cx="3200400" cy="73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675400" y="367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75400" y="4952880"/>
            <a:ext cx="1706400" cy="10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5675400" y="2227320"/>
            <a:ext cx="1792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y have a proposal – What next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06668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, again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’m calling to follow-up on the proposal I sent in support of students at JWU to see if you have come to a decision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re any questions I can answer that might encourage you to help our students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re any additional information you need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er to re-visit them (and bring along the Dean, etc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 various payment options and the tax benefits of each – donation of stock, other appreciated assets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 Rollover Act (age 70 ½) – On again, off aga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1281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No Major Gift interest – Try a Planned Gift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2193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donor have an unused asset (property, stocks, etc.) that can be turned into a stream of income through an annuity or charitable remainder trus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donor warm to the university but may not feel comfortable making an outright gift? Capac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 the donor considered adding JWU into their will or trust? - Jo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14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don’t have to know everything about planned giving, but be sure to know that a planned giving option exists and who they can speak wi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Other consideration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r gifts usually require leadership involvement and/or volunte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place undue pressure on volunteer (MGO’s are ultimately responsible for the ask).   Briefing &amp; meeting prior to visit.  Volunteer/Dean may be more relaxed if gift officer makes the as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number of gift options in m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about numbers, be very “matter-of-fact”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impact, focus on results and legac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don’t forget to ask if donor would be willing to help you raise additional funds or make introdu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nal Though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1430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respectful of the donor at every tur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accept a gift that will cost the university more than the value of the gift (at least without university consent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 everyone the same – alumni circles can be very small…and people tal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king for money is not intuitive.  It is a learned trait that can only be developed and honed through experie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proud to be a fundraiser – You are helping peop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if someone doesn’t make a major gift, they may be able to help you in other way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598760"/>
            <a:ext cx="8764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82680" y="4229280"/>
            <a:ext cx="723888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ank you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657600" y="464832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 Eatoug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.eatough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 Ol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.olson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Basics (Quick Overview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we Star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begins with Moves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ltiv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ici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ward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0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: 2013 US Giving by Donor Type</a:t>
            </a:r>
            <a:br>
              <a:rPr sz="3600"/>
            </a:br>
            <a:r>
              <a:rPr b="1" lang="en-US" sz="2400" spc="-1" strike="noStrike">
                <a:solidFill>
                  <a:srgbClr val="052c97"/>
                </a:solidFill>
                <a:latin typeface="Gill Sans MT"/>
              </a:rPr>
              <a:t>80% of all gifts are made by individuals</a:t>
            </a:r>
            <a:endParaRPr b="0" lang="en-US" sz="24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876240" y="1625760"/>
            <a:ext cx="8305920" cy="4520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439440" y="6324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: Giving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088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52c97"/>
                </a:solidFill>
                <a:latin typeface="Gill Sans MT"/>
              </a:rPr>
              <a:t>Key Fact: JWU Domestic Alumni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19320" y="898560"/>
            <a:ext cx="7486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2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s:  JWU Alumni Bas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100,000 alumni from 126 coun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5% of that base has graduated since 19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6% have graduated from the Providence camp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1% live in the Northe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32% from Busi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8% from Hospitality and Food Serv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7% from Culinary A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8% from Graduate scho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5% from Engineering &amp;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Identification: Essential Prospec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Donors to the University (cumulative &amp; single gif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eened Prospects (wealth screening provid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by Title (CEO, Chair, President, Owner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Fri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Wealthiest People in Re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Corporate Entities/Fou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nts from Affluent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ecutive Year Donors – Planned Giving Prosp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ls/Couples with No Children (Discretionary Incom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Discovery: Securing the Visi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map – know the location and travel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it easy for the donor (Meet at their home or offi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with an e-mail (confirmation or reque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 the call report immediate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 discovery visits in between meetings with identified prospects (the pipeline is critic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Cold Call – What to Say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2000" cy="2949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80880" y="4114800"/>
            <a:ext cx="944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yourself and that you work at (Johnson &amp; Wale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“As part of a university initiative we are trying to meet with as many successful alumni as possible and I was hoping to have the opportunity to meet with you for 30-45 minutes to learn about your (JWU) experiences and give you a quick update on some of our current effor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aving message – “I’ll follow up with an e-mail and will call you back in a couple of days if I don’t hear from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3:15:17Z</dcterms:created>
  <dc:creator>sborowy</dc:creator>
  <dc:description/>
  <dc:language>en-US</dc:language>
  <cp:lastModifiedBy>Kelly Faulkner</cp:lastModifiedBy>
  <cp:lastPrinted>2013-04-02T15:04:39Z</cp:lastPrinted>
  <dcterms:modified xsi:type="dcterms:W3CDTF">2017-02-09T02:17:13Z</dcterms:modified>
  <cp:revision>160</cp:revision>
  <dc:subject/>
  <dc:title>Slide 1</dc:title>
</cp:coreProperties>
</file>